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CBAF-CA89-4BE0-A1DA-62824AFB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E0A9-D160-4145-A141-75B54BCB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DD13-13AE-4D57-8489-2D9330EC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FC0D-46EC-4873-9BC7-9DCEEAA34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6C2B-81FE-482F-9884-214D4ED1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FCA8-122B-46A0-B3C4-5BED8F5C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9990-638C-4B42-AE5D-DB7EE102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EA23-09D2-4EDF-9A54-552BCFFC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940E-5D87-4E3F-9B9B-E9D7664E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8B26-F10A-4A88-B14D-962A9E80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23A8-2A17-40AD-AF91-BE68CE8A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A88F-134C-4621-8D9B-2D323858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1EDF-E2F0-4AC4-B93C-F48A6F971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99"/>
                </a:solidFill>
                <a:latin typeface="Arial"/>
              </a:rPr>
              <a:t>Pre-Tes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557360"/>
            <a:ext cx="41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Ec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64000" y="350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Poll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51480" y="2417760"/>
            <a:ext cx="426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2205000"/>
            <a:ext cx="8820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insect live in different  environment. Some live in wet some live in d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32360" y="15573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6680" y="2997360"/>
            <a:ext cx="55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ct eat different  food  because they are different</a:t>
            </a: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3560" y="2565360"/>
            <a:ext cx="132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4005360"/>
            <a:ext cx="6553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insect collect pollinators they are bees, wasp and butterf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ct collect pollinators because we need it for our enviro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2:41:57Z</dcterms:created>
  <dc:creator>eileen.wu</dc:creator>
  <dc:description/>
  <dc:language>en-US</dc:language>
  <cp:lastModifiedBy>eileen.wu</cp:lastModifiedBy>
  <dcterms:modified xsi:type="dcterms:W3CDTF">2009-03-24T02:41:02Z</dcterms:modified>
  <cp:revision>2</cp:revision>
  <dc:subject/>
  <dc:title>Pre-Test</dc:title>
</cp:coreProperties>
</file>